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AB4-B0BF-4A7D-8AFE-E40480B7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115-04EA-4AC8-8AE3-2AE9089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935-22FE-4EBC-9C85-6CA65CCE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138-6AD1-46AB-A930-5A79B42B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8096-BA6D-4439-8DF7-57CE88DD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3188-BB1E-45B0-BFDB-E20BCA4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4D4A-2DFB-42B5-8BB1-44E0B03A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47DC-C8D1-45C4-81B5-DFF265F9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DEB5-4AF2-48CA-A728-1EAE6F8E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A8D4-07E8-4B99-B352-20F60C41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08B6-21DB-4FE5-A214-91431902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1AA-4AE7-4394-AF1E-E3C53642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28B3-AA93-4FE7-9135-AF865FA3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E8C9-F920-4C6E-AF56-7827BA0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E60F-2AC8-4EB9-B410-273EBC5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66DB-B996-4C1D-9E49-744D21B1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C919-2F93-49F4-AF57-43950B54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4F5-C4C1-46EB-AAE3-FA49CD10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BE3-A7C6-4B1B-8BAD-91907A3F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674-8A53-40CB-A922-372252CF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78D-5509-43A9-B534-DF18832B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C66-2AF1-48F5-A996-92E3397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2BF-3F7A-4F14-BDFF-5A2D914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993-3711-4BB3-86B2-3EDACA3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E121-7857-4B31-AF5F-39395AA8CD1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A70E-56D7-4FDA-9087-791B67B67EB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03280" y="0"/>
            <a:ext cx="614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ا أحبَّ مساكِنَك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َ الجنود تشتاقُ وتذوبُ نفسي إلى ديارِ الر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76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رنمُ قلبي وجسمي للإلهِ الحيّ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العصفورُ وجَدَ لهُ مأوى واليمامةُ عُشاً تَضَعُ فيه أفراخَه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4000" y="0"/>
            <a:ext cx="535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مذابحِكَ يا ربَّ الجنودِ مَلِكي وإله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95640" y="0"/>
            <a:ext cx="4995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سكّان بيتِكَ فإنه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لا يبرحونَ يسبّحونَكَ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9:47:28Z</dcterms:created>
  <dc:creator>Charbel Azar</dc:creator>
  <dc:description/>
  <dc:language>en-US</dc:language>
  <cp:lastModifiedBy>ف</cp:lastModifiedBy>
  <dcterms:modified xsi:type="dcterms:W3CDTF">2006-11-07T19:33:19Z</dcterms:modified>
  <cp:revision>8</cp:revision>
  <dc:subject/>
  <dc:title>Slide 1</dc:title>
</cp:coreProperties>
</file>